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EA6-9853-4D40-9E6B-76A17058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2FF-B34C-47E9-AFF3-47B03D0A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836-A8EE-48CB-9956-0CE679E1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1FA-E3A9-428B-9605-E901F3ED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1224-99BC-4957-8AF1-7B8A9C29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D4DA-8928-41A9-BCA3-449E8A09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E84C-CD21-4E59-BB9F-BB749A3E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881F-6534-4FEB-93EE-A6F6D740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6109-8C7C-4DB9-9943-AAE5B39B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E3A4-568E-4BD5-8D8F-60C41932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A816-705C-4C10-BCAA-16146189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852-1765-4765-884A-66501A89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D543-3111-4E33-A76B-618E8A39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78EA-D781-4D2C-8A2B-31F069E0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6AF7-0FA9-4971-8E66-2E7DAB62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F88E-6BFD-4D42-8257-6B7516C4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9EF2-0219-47B9-A1FB-E62295A3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CE6-4D56-4E04-AEC2-EFDE838B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AF2-265E-44B7-92C3-B0DC3EEF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45E-BC71-48E7-9263-45E48F10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3F9-5622-4950-A875-37149D8D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F37-08DD-4DFB-9FB2-A5413975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677-F6CD-40F2-8843-34FEF8F2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626-11CB-4878-9257-7915F0EA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993F-5CB6-424E-8485-F952A13D13F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F347-3AAF-4722-99FE-3C0FA737A76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.pn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8"/>
          <p:cNvSpPr txBox="1"/>
          <p:nvPr/>
        </p:nvSpPr>
        <p:spPr>
          <a:xfrm>
            <a:off x="611280" y="1413000"/>
            <a:ext cx="7921440" cy="39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7239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История созд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российск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гим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88" name="Picture 10" descr="flag_left"/>
            <p:cNvPicPr/>
            <p:nvPr/>
          </p:nvPicPr>
          <p:blipFill>
            <a:blip r:embed="rId1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1" descr="Flag"/>
            <p:cNvPicPr/>
            <p:nvPr/>
          </p:nvPicPr>
          <p:blipFill>
            <a:blip r:embed="rId2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Москва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544320" y="476280"/>
            <a:ext cx="775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оссия — священная наша держава,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оссия — любимая наша страна.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Могучая воля, великая слава -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Твоё достоянье на все времена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129" name="Picture 5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687600" y="549360"/>
            <a:ext cx="81208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Славься, Отечество наше свободное,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Братских народов союз вековой,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Предками данная мудрость народная!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Славься, страна! Мы гордимся тоб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900000" y="57340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8133" y="3794"/>
                </a:moveTo>
                <a:lnTo>
                  <a:pt x="22146" y="10800"/>
                </a:lnTo>
                <a:lnTo>
                  <a:pt x="813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Картинка 38 из 2283"/>
          <p:cNvPicPr/>
          <p:nvPr/>
        </p:nvPicPr>
        <p:blipFill>
          <a:blip r:embed="rId1"/>
          <a:stretch/>
        </p:blipFill>
        <p:spPr>
          <a:xfrm>
            <a:off x="179280" y="2349360"/>
            <a:ext cx="8964720" cy="431964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135" name="Picture 6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7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79280" y="1197000"/>
            <a:ext cx="5184720" cy="40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т южных мо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до полярного края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Раскинулись на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леса и поля.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дна ты на све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дна ты такая -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Хранимая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родная земл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Картинка 18 из 893"/>
          <p:cNvPicPr/>
          <p:nvPr/>
        </p:nvPicPr>
        <p:blipFill>
          <a:blip r:embed="rId1"/>
          <a:stretch/>
        </p:blipFill>
        <p:spPr>
          <a:xfrm>
            <a:off x="6659640" y="4581360"/>
            <a:ext cx="2232000" cy="1873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grpSp>
        <p:nvGrpSpPr>
          <p:cNvPr id="139" name="Group 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140" name="Picture 5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8" descr="Родина1"/>
          <p:cNvPicPr/>
          <p:nvPr/>
        </p:nvPicPr>
        <p:blipFill>
          <a:blip r:embed="rId4"/>
          <a:stretch/>
        </p:blipFill>
        <p:spPr>
          <a:xfrm>
            <a:off x="4284720" y="260280"/>
            <a:ext cx="4673520" cy="424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0_3738_4839bde6_S"/>
          <p:cNvPicPr/>
          <p:nvPr/>
        </p:nvPicPr>
        <p:blipFill>
          <a:blip r:embed="rId5"/>
          <a:stretch/>
        </p:blipFill>
        <p:spPr>
          <a:xfrm>
            <a:off x="4284720" y="4581360"/>
            <a:ext cx="22320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фон16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250920" y="1052640"/>
            <a:ext cx="870876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Широкий прост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для мечты и для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Грядущие нам открывают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Нам силу даёт наша верность Отчизн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Так было, так есть и так будет всег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Солнце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148" name="Picture 6" descr="flag_left"/>
            <p:cNvPicPr/>
            <p:nvPr/>
          </p:nvPicPr>
          <p:blipFill>
            <a:blip r:embed="rId3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7" descr="Flag"/>
            <p:cNvPicPr/>
            <p:nvPr/>
          </p:nvPicPr>
          <p:blipFill>
            <a:blip r:embed="rId4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асставить названия гимнов в том порядке, как они появилис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7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имн Росс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же, царя храни”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имн СССР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национа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триотическая песня”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ображенский марш Петра Великого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слушайте отрыв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определи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й это гимн (название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154" name="Picture 7" descr="flag_left"/>
            <p:cNvPicPr/>
            <p:nvPr/>
          </p:nvPicPr>
          <p:blipFill>
            <a:blip r:embed="rId1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8" descr="Flag"/>
            <p:cNvPicPr/>
            <p:nvPr/>
          </p:nvPicPr>
          <p:blipFill>
            <a:blip r:embed="rId2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Кто написал слова и музыку современного Гимна Рос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63360" y="65160"/>
            <a:ext cx="1152720" cy="620640"/>
            <a:chOff x="63360" y="65160"/>
            <a:chExt cx="1152720" cy="620640"/>
          </a:xfrm>
        </p:grpSpPr>
        <p:pic>
          <p:nvPicPr>
            <p:cNvPr id="158" name="Picture 7" descr="flag_left"/>
            <p:cNvPicPr/>
            <p:nvPr/>
          </p:nvPicPr>
          <p:blipFill>
            <a:blip r:embed="rId1"/>
            <a:srcRect l="0" t="0" r="53825" b="0"/>
            <a:stretch/>
          </p:blipFill>
          <p:spPr>
            <a:xfrm>
              <a:off x="63360" y="65160"/>
              <a:ext cx="55404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8" descr="Flag"/>
            <p:cNvPicPr/>
            <p:nvPr/>
          </p:nvPicPr>
          <p:blipFill>
            <a:blip r:embed="rId2"/>
            <a:stretch/>
          </p:blipFill>
          <p:spPr>
            <a:xfrm>
              <a:off x="639720" y="209520"/>
              <a:ext cx="57636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фон16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3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162" name="Picture 4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5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WordArt 6"/>
          <p:cNvSpPr txBox="1"/>
          <p:nvPr/>
        </p:nvSpPr>
        <p:spPr>
          <a:xfrm>
            <a:off x="755640" y="189000"/>
            <a:ext cx="7488360" cy="64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юбить Россию</a:t>
            </a:r>
            <a:endParaRPr b="0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до не за то,</a:t>
            </a:r>
            <a:endParaRPr b="0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она велика,</a:t>
            </a:r>
            <a:endParaRPr b="0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 за то, что она твоя </a:t>
            </a:r>
            <a:endParaRPr b="0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дина</a:t>
            </a:r>
            <a:endParaRPr b="0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3357720"/>
            <a:ext cx="84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Гимн –слово образовано от греческого «гимнос», что означает «вдохновение, торжественная песн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 "/>
          <p:cNvPicPr/>
          <p:nvPr/>
        </p:nvPicPr>
        <p:blipFill>
          <a:blip r:embed="rId1"/>
          <a:stretch/>
        </p:blipFill>
        <p:spPr>
          <a:xfrm>
            <a:off x="3492360" y="260280"/>
            <a:ext cx="2159280" cy="252108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grpSp>
        <p:nvGrpSpPr>
          <p:cNvPr id="92" name="Group 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93" name="Picture 5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71280" y="333360"/>
            <a:ext cx="7643880" cy="79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i="1" lang="ru-RU" sz="2600" spc="-1" strike="noStrike">
                <a:solidFill>
                  <a:srgbClr val="6600cc"/>
                </a:solidFill>
                <a:latin typeface="Times New Roman"/>
              </a:rPr>
              <a:t>Первый  неофициальный  гимн  Росс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6633"/>
                </a:solidFill>
                <a:latin typeface="Times New Roman"/>
              </a:rPr>
              <a:t>«Преображенский марш Петра велико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йдем, братцы, за границу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ить Отечества врагов.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спомним матушку-царицу,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спомним, век ее каков!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лавный век Екатерины,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м напомнит каждый шаг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Те поля, леса, долины,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де бежал от русских враг…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97" name="Picture 5" descr="flag_left"/>
            <p:cNvPicPr/>
            <p:nvPr/>
          </p:nvPicPr>
          <p:blipFill>
            <a:blip r:embed="rId1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" descr="Flag"/>
            <p:cNvPicPr/>
            <p:nvPr/>
          </p:nvPicPr>
          <p:blipFill>
            <a:blip r:embed="rId2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16000" y="475920"/>
            <a:ext cx="6408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100" spc="-1" strike="noStrike">
                <a:solidFill>
                  <a:srgbClr val="6600cc"/>
                </a:solidFill>
                <a:latin typeface="Arial"/>
              </a:rPr>
              <a:t>Неофициальный гимн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Times New Roman"/>
              </a:rPr>
              <a:t>           </a:t>
            </a:r>
            <a:r>
              <a:rPr b="1" i="1" lang="ru-RU" sz="2600" spc="-1" strike="noStrike">
                <a:solidFill>
                  <a:srgbClr val="006633"/>
                </a:solidFill>
                <a:latin typeface="Times New Roman"/>
              </a:rPr>
              <a:t>«Гром победы, раздавайся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00cc"/>
                </a:solidFill>
                <a:latin typeface="Arial"/>
              </a:rPr>
              <a:t>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ом победы, раздавайся!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селися, храбрый Росс!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чной славой украшайся!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гомета ты потрёс!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ды быстрые Дуная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ж в руках теперь у нас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рабрость Россов почитая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вр под нами и Кавказ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971 – 1816 г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101" name="Picture 5" descr="flag_left"/>
            <p:cNvPicPr/>
            <p:nvPr/>
          </p:nvPicPr>
          <p:blipFill>
            <a:blip r:embed="rId1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Flag"/>
            <p:cNvPicPr/>
            <p:nvPr/>
          </p:nvPicPr>
          <p:blipFill>
            <a:blip r:embed="rId2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ff0066"/>
                </a:solidFill>
                <a:latin typeface="Arial"/>
              </a:rPr>
              <a:t>Первый официальный гимн Росс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оже, Царя храни!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лавному долги дни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ай на земли!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ордых смирителю,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лабых хранителю,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сех утешителю –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сё ниспошли!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105" name="Picture 5" descr="flag_left"/>
            <p:cNvPicPr/>
            <p:nvPr/>
          </p:nvPicPr>
          <p:blipFill>
            <a:blip r:embed="rId1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6" descr="Flag"/>
            <p:cNvPicPr/>
            <p:nvPr/>
          </p:nvPicPr>
          <p:blipFill>
            <a:blip r:embed="rId2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тернациона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78598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ай, проклятьем заклеймен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ь мир голодных и рабов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пит наш разум возмущ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смертный бой идти го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ь мир насилья мы разру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основанья, а за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наш, мы новый мир постро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был ничем, тот станет 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пе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есть наш послед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ешительный б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нтернационал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рянет род людск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918–194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110" name="Picture 5" descr="flag_left"/>
            <p:cNvPicPr/>
            <p:nvPr/>
          </p:nvPicPr>
          <p:blipFill>
            <a:blip r:embed="rId1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Flag"/>
            <p:cNvPicPr/>
            <p:nvPr/>
          </p:nvPicPr>
          <p:blipFill>
            <a:blip r:embed="rId2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имн ССС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юз нерушимый республик свобод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лотила навеки великая Рус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 здравствует созданный волей народ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диный, могучий Советский Союз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пе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ружбы народов надежный оплот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тия Ленина – сила народна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с к торжеству коммунизма веде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944-1991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115" name="Picture 6" descr="flag_left"/>
            <p:cNvPicPr/>
            <p:nvPr/>
          </p:nvPicPr>
          <p:blipFill>
            <a:blip r:embed="rId1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7" descr="Flag"/>
            <p:cNvPicPr/>
            <p:nvPr/>
          </p:nvPicPr>
          <p:blipFill>
            <a:blip r:embed="rId2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33"/>
                </a:solidFill>
                <a:latin typeface="Garamond"/>
              </a:rPr>
              <a:t>Михаил  Глинка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96720" y="2420640"/>
            <a:ext cx="954072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5400" spc="-1" strike="noStrike">
                <a:solidFill>
                  <a:srgbClr val="ff0066"/>
                </a:solidFill>
                <a:latin typeface="Arial"/>
              </a:rPr>
              <a:t>«Патриотическая песн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1993–2000 гг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120" name="Picture 5" descr="flag_left"/>
            <p:cNvPicPr/>
            <p:nvPr/>
          </p:nvPicPr>
          <p:blipFill>
            <a:blip r:embed="rId1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Flag"/>
            <p:cNvPicPr/>
            <p:nvPr/>
          </p:nvPicPr>
          <p:blipFill>
            <a:blip r:embed="rId2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4000" y="907920"/>
            <a:ext cx="86407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С </a:t>
            </a:r>
            <a:r>
              <a:rPr b="1" i="1" lang="ru-RU" sz="3200" spc="-1" strike="noStrike">
                <a:solidFill>
                  <a:srgbClr val="f20017"/>
                </a:solidFill>
                <a:latin typeface="Times New Roman"/>
              </a:rPr>
              <a:t>1 января 2001 года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российские политики окончательно утвердили  государственный гимн России  на слова С.В. Михалкова и музыку А.В. Александр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Закон «О государственном гимне Российской Федерации» был принят и подпис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25 декабря 2000 года  Президентом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ладимиром Владимировичем Пути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124" name="Picture 5" descr="flag_left"/>
            <p:cNvPicPr/>
            <p:nvPr/>
          </p:nvPicPr>
          <p:blipFill>
            <a:blip r:embed="rId1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Flag"/>
            <p:cNvPicPr/>
            <p:nvPr/>
          </p:nvPicPr>
          <p:blipFill>
            <a:blip r:embed="rId2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47:40Z</dcterms:created>
  <dc:creator>Admin</dc:creator>
  <dc:description/>
  <dc:language>en-US</dc:language>
  <cp:lastModifiedBy>001</cp:lastModifiedBy>
  <dcterms:modified xsi:type="dcterms:W3CDTF">2024-09-09T18:30:11Z</dcterms:modified>
  <cp:revision>11</cp:revision>
  <dc:subject/>
  <dc:title>Слайд 1</dc:title>
</cp:coreProperties>
</file>